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92CC-A7FF-47AD-8B3B-B1EC89FC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49D2-439E-4888-A5D9-D9B52E5D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5993-A673-4C22-8195-9ECD6456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4B07-7225-4349-A011-FBB26BB4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ED7C-C435-4FD3-8C6F-E87F4161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B653-15D2-42EA-B64F-23B89BC3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4379-D776-4DC9-B61B-CA162BB4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FE3E-B259-4136-ACBA-1C8690C6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96CE-E9C1-412C-8406-3C88481A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917F-84C9-45A2-975D-1318F91F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D645-5C56-4C76-AEA9-7F6EC85F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473-1665-408D-962F-0B9465B0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7645-40B3-4919-B5C0-7CD2CA51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1F4C-75CF-4871-A934-CD8CEBAA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07FC-A71B-4721-830E-7C284A73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37E1-1D6C-4DFC-B2DF-C5114D1C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7C1D-9CD3-484C-9092-5D5B1F9E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FBAC-DCE3-4074-912A-D9CE4F91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978-67D3-4416-A95D-6B25B6E2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D576-096B-49A2-8A1E-B4D05D22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1EA7-F3BB-4644-AF7C-6FF1D89B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D59-C014-4245-8EB3-E1E5E318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677C-7FEB-44D5-ACFA-7F5AE1E7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8267-C552-4C30-8646-7E3650CC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46200" indent="-24840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994320" indent="-19872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392120" indent="-19872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789920" indent="-19872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C055-6932-4310-9D6B-F46AB7B7B46B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25E3-48DA-4148-814D-6223F000BFA8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15184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Peer Buddy Program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njoy some pictures of Peer Buddies and Amazing Amigos in action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Questions?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Peer Buddie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reative Arts class that meets during your scheduled Creative Arts class tim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class that provides you with the opportunity to get to work closely with someone who has a significant disabilit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class where you get to help the person with disabilities complete activities and assignments in his/her class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er Buddies is more than just a class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s a Peer Buddy YOU will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ain an understanding of what is like to have a disabilit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arn sensitivity towards someone with a disabilit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m a positive relationship with a peer who has a significant disabilit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ke a difference in someone else’s lif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do we do in Peer Buddies class?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ach Peer Buddy completes a series of training sessions so he/she is well prepared to work with his/her Buddy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udents are given the opportunity to have open and honest conversations about becoming a Peer Buddy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er Buddy Train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ining takes place during the first 4-5 sessions of Peer Buddies clas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uring training you will complete a variety of activities to prepare you for working with your Peer Budd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Documentar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Disability Researc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Sensitivity Experime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Discuss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Observ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en do we get to work with our buddy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nce training is completed you are assigned to a Budd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work directly with your Buddy to assist with school work and socializa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roughout the semester, you are required to complete reflective journals, attend scheduled discussion days and participate in 1 Amazing Amigos activity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do I become a Peer Buddy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plete the interest survey given to you during advisory clas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re will be several activities coming up with the current special needs students from our STEP classrooms that will provide you with an opportunity to participate now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r. Olson and Mrs. King will be using the information from your survey to sign students up for Peer Buddies class next year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else can I do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Amazing Amigos is an after-school club that welcomes all students regardless of their grade level or ability level.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his club provides the students with significant special needs an opportunity to socialize and have fun with their peers outside of the school day.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Amazing Amigos meets one time every month.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Students can attend all of the activities or choose activities based on their personal schedule.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mic Sans MS"/>
              </a:rPr>
              <a:t>Why do students choose to become a Peer Buddy or join Amazing Amigos?</a:t>
            </a:r>
            <a:endParaRPr b="0" lang="en-US" sz="3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Ultra Bold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coming Friend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Ultra Bold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derstanding that we’re all differen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Ultra Bol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ing things togethe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Ultra Bol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dicated to doing the right th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Ultra Bold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u can make a differenc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1:25:16Z</dcterms:created>
  <dc:creator>nssd112</dc:creator>
  <dc:description/>
  <dc:language>en-US</dc:language>
  <cp:lastModifiedBy>nssd112</cp:lastModifiedBy>
  <cp:lastPrinted>1904-01-01T00:00:00Z</cp:lastPrinted>
  <dcterms:modified xsi:type="dcterms:W3CDTF">2011-04-06T18:19:33Z</dcterms:modified>
  <cp:revision>14</cp:revision>
  <dc:subject/>
  <dc:title>Edgewood Middle School  Peer Buddy Program</dc:title>
</cp:coreProperties>
</file>